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EDF-CA43-4C16-8DC8-F5FED5B6B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F5BD-A12E-48C6-8440-FC8CC7B68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42B-8D77-4A1A-B55E-A0E60205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173-B720-4415-879D-326D3AD8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320-69BB-4A7E-A7BE-079F54D4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22D-2B76-4309-90B9-06807B15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DCB5-C0F3-49B1-A164-6F6987F1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51F-287D-478F-BA01-4247515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10F-D952-47A1-94B5-70C90B9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DB8-6A0E-497E-A41B-434C7FE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8C2E-EF7D-4E78-9CE1-9C71B11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E98C-0688-486E-942C-FC4E82B1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D4B4-13FF-451F-B467-5D8A60F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361-8A2C-45E8-AF8B-34A460E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542A-BD27-4DD3-8CE8-6606452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78A8-9F4F-4797-8AE1-50A64AD3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28BE-1C6D-4A97-BC8C-2DAD8633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EBF-EFC8-4990-A638-21C00F2A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2138-E6B4-4E02-A2A3-2B03A0C6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3A3B-98AF-406A-ADD4-D16AE878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66EB-4990-4AC3-94E6-6935621F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3F56-18AD-4EED-91C1-0148BBD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6F29-3A1E-4338-8B97-2495C1D0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2494-6471-476E-8324-F059A4C2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F5D-B089-47E3-98CE-4EAB4EB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0CEF-9649-4171-83D4-746F41A4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9F7B-773C-45EB-8A92-C3452117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3889-5F1D-4D90-B83C-35F7DF7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2282-14B3-4A1B-A334-1023564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F694-18F7-42F8-ACDA-8BE95675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7C78-7492-4545-90E4-69BB79C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DB4D-6992-4D1A-BDE7-B7136270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545-760B-4574-8072-6C6862FA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0CC-8EBA-4253-9D3A-0408188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273-06A0-4782-91B5-8A9189F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C16-A213-4372-A0DC-6FCCDF6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23C-CF7E-4D0A-B4FE-B84AFAC9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662-4BE5-460D-9B20-1605708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787-F15C-4213-8C41-F6E1877E56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29B-EF5D-4247-973B-882B7AB0C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фон титульный.jpg"/>
          <p:cNvPicPr/>
          <p:nvPr/>
        </p:nvPicPr>
        <p:blipFill>
          <a:blip r:embed="rId2"/>
          <a:stretch/>
        </p:blipFill>
        <p:spPr>
          <a:xfrm>
            <a:off x="0" y="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E09-28A5-41AB-905C-D421C29A20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9F8-A583-4784-BF36-B73443515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фон обычный.jpg"/>
          <p:cNvPicPr/>
          <p:nvPr/>
        </p:nvPicPr>
        <p:blipFill>
          <a:blip r:embed="rId2"/>
          <a:stretch/>
        </p:blipFill>
        <p:spPr>
          <a:xfrm>
            <a:off x="0" y="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F6EC-3257-4A60-98E1-28D837C8A1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913-695A-4C4D-9A6E-68EC583CF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хема 4" descr=""/>
          <p:cNvPicPr/>
          <p:nvPr/>
        </p:nvPicPr>
        <p:blipFill>
          <a:blip r:embed="rId1"/>
          <a:stretch/>
        </p:blipFill>
        <p:spPr>
          <a:xfrm>
            <a:off x="-128520" y="1609560"/>
            <a:ext cx="9516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Администрации, руководителям ШМО О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анализ результатов диагностического тестирования по математике 12.01.2016 г. Держать на личном контроле работу учителей математики своего учреждения в урочное и внеурочное время по подготовке к ЕГЭ по математи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спользовать метод обмена учителями математики своей школы в организации занятий во внеурочное врем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сайте своей школы разместить графики дополнительных занятий с учащимися, выполнившими менее 7 заданий, с указанием даты, места, времени пр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B44-5D54-49C3-A0DC-FB1663BF4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ям математ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2560" y="2285640"/>
            <a:ext cx="9001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анализ затруднений обучающихся по результатам диагностического тестирования 20.12.2014 г.  с целью их устра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ратить внимание на отработку общеучебных умений и навыков учащихся, скорость вычислительных действий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без калькулятор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 развитие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ести работу с учащимися 11 классов по индивидуальному плану (в урочное и внеурочное время) подготовки к ЕГЭ в 2016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D48-D0DB-452F-A7B3-C9F4FB980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D69-354D-4A54-A2F8-70EA63F32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частники тес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F3E7-6369-4027-88A4-24FC512E2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Содержимое 5"/>
          <p:cNvGrpSpPr/>
          <p:nvPr/>
        </p:nvGrpSpPr>
        <p:grpSpPr>
          <a:xfrm>
            <a:off x="480960" y="2054160"/>
            <a:ext cx="8261280" cy="4816440"/>
            <a:chOff x="480960" y="2054160"/>
            <a:chExt cx="8261280" cy="4816440"/>
          </a:xfrm>
        </p:grpSpPr>
        <p:pic>
          <p:nvPicPr>
            <p:cNvPr id="136" name="Содержимое 5" descr=""/>
            <p:cNvPicPr/>
            <p:nvPr/>
          </p:nvPicPr>
          <p:blipFill>
            <a:blip r:embed="rId1"/>
            <a:stretch/>
          </p:blipFill>
          <p:spPr>
            <a:xfrm>
              <a:off x="480960" y="2054160"/>
              <a:ext cx="826128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0040" y="2071800"/>
              <a:ext cx="822960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2060"/>
                  </a:solidFill>
                  <a:latin typeface="Calibri"/>
                </a:rPr>
                <a:t>14 общеобразовательных учреждений: </a:t>
              </a:r>
              <a:r>
                <a:rPr b="0" lang="ru-RU" sz="3200" spc="-1" strike="noStrike">
                  <a:solidFill>
                    <a:srgbClr val="002060"/>
                  </a:solidFill>
                  <a:latin typeface="Calibri"/>
                </a:rPr>
                <a:t>школы № 2,3, 4, 5,6,7,8,10, гимназия № 11, лицей №12, Шугуровская СОШ, Зеленорощинская СОШ, Тимяшевская СОШ, Старокувакская СО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Calibri"/>
                </a:rPr>
                <a:t>- 194 обучающихся</a:t>
              </a:r>
              <a:r>
                <a:rPr b="0" i="1" lang="ru-RU" sz="3200" spc="-1" strike="noStrike">
                  <a:solidFill>
                    <a:srgbClr val="c00000"/>
                  </a:solidFill>
                  <a:latin typeface="Calibri"/>
                </a:rPr>
                <a:t>, из 334 обучающихся,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Calibri"/>
                </a:rPr>
                <a:t>62,39 %</a:t>
              </a:r>
              <a:r>
                <a:rPr b="0" i="1" lang="ru-RU" sz="3200" spc="-1" strike="noStrike">
                  <a:solidFill>
                    <a:srgbClr val="c00000"/>
                  </a:solidFill>
                  <a:latin typeface="Calibri"/>
                </a:rPr>
                <a:t> от общего числа учащихся 11 классов ЛМ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400" y="14997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асть первая содержит 8 заданий (задания 1-8) с кратким числовым ответом. Часть вторая содержит 11 заданий, всего 19 зад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аксимальное количество первичных баллов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за работу в целом –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4 балла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выполнение экзаменационной работы отводится 3 часа 55 минут (235 ми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инимальный порог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по математике определен в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первичных баллов, что соответствует 7 правильно выполненным заданиям 1 ч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3BCC-DE41-4074-A87C-F07122F64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42960" y="85680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учшие результаты обучающихся 11-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43D-32AB-4029-928F-9642A53E6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000160"/>
          <a:ext cx="8001000" cy="4502160"/>
        </p:xfrm>
        <a:graphic>
          <a:graphicData uri="http://schemas.openxmlformats.org/drawingml/2006/table">
            <a:tbl>
              <a:tblPr/>
              <a:tblGrid>
                <a:gridCol w="1071720"/>
                <a:gridCol w="1595160"/>
                <a:gridCol w="1333800"/>
                <a:gridCol w="1333440"/>
                <a:gridCol w="1333440"/>
                <a:gridCol w="1333440"/>
              </a:tblGrid>
              <a:tr h="1125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.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%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25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П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С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ЯЧЕСЛАВ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25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А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Г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25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Ю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АНТИ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56800" y="142884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инимальный порог не преодоле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3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бучающихс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то составляет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2,78 %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 общего числа участников тестировани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3 школьников (6,7%) выполнили 3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3 школьников (6,7%) выполнили 4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6 школьников (13,4%) выполнили 5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6 школьников (13,4%) выполнили 6 за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2 школьника (11,34%) выполнили 7 заданий, входящие в группу р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695-7B65-4A86-9060-4FBB382F5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7120" y="13572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редний первичный балл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(первичный)-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7,39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амый высокий показатель среднего балла в СОШ № 6 – 10,37, в лицее № 12 – 9,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ше муниципального показ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Шугуровской СОШ – 8,5, в Тимяшевской СОШ – 8,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2 - 7,81, в Старо-кувакской СОШ – 7,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7 – 7,5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же муниципального показателя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Зелено-Рощинской СОШ – 7, в СОШ № 5 – 6,94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8 – 6,5, в СОШ № 4 – 6,42, в СОШ № 3 – 5,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10 – 5,35, в гимназии № 11 – 5,2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D09-7E63-4ADC-9770-879C7F167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71432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спеваемость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в тестировании составила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7,2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00% успевае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Шугуровской СОШ, в Тимяшевской СО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ше муниципального показателя в СОШ № 6 – 93,75%, в СОШ № 5 – 72,23%, в СОШ № 7 -79,32 %, в Зелено-Рощинской СОШ – 70 %, в лицее № 12 – 78,95 %, в СОШ № 2 – 75 %, в СОШ № 8  – 65%, в гимназии № 11 -63,64 %, в СОШ № 3 – 60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же муниципального показателя в СОШ № 4 –57,15%, в Старо-Кувакской СОШ – 50%, в СОШ № 10 – 35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884-2F18-411A-B7EF-438637284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ровень обученности математике выпускников 11 классов на профильном уровне по результатам диагностического тестирования от 12.01.2016 г. считать неудовлетворительны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ровень подготовки участников тестирования к экзамену в Шугуровской СОШ и Тимяшевской СОШ на удовлетворительном уровн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ыявлено усложнение заданий КИМ-ов в сравнении с КИМ-ми 09.10.2015 г.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1B7D-378E-484D-8DAF-7202C12B5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560" y="178596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овести анализ индивидуальных результатов диагностического тестирования по математике выпускников 11-х классов по ОУ Лениногорского муниципального райо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Организовать дополнительные занятия для учащихся, имеющих трудности в подготовке к ЕГЭ по математике на профильном уровне в 2016 год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Организовать тестирование для учащихся с оценкой «2» в марте 2016 г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E41-947F-4393-8336-09FED8E3E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7T14:03:58Z</dcterms:created>
  <dc:creator>Фарит</dc:creator>
  <dc:description/>
  <dc:language>en-US</dc:language>
  <cp:lastModifiedBy>Загидуллина </cp:lastModifiedBy>
  <dcterms:modified xsi:type="dcterms:W3CDTF">2016-02-05T04:39:14Z</dcterms:modified>
  <cp:revision>174</cp:revision>
  <dc:subject/>
  <dc:title>Слайд 1</dc:title>
</cp:coreProperties>
</file>